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EE8-752B-4B58-874B-3D9C5950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5B9-72A2-45B2-A783-3A735610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505-F4F4-4E1A-B484-D9DBFF09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633-459C-41FF-A316-E99FC4D2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996-2D9A-4A06-8FFA-A47E67F2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6DA-E871-4439-BCF5-A65C89F3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7DB-AC7F-4C50-9750-733599B9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A21-E06A-4B8F-8657-A1E98B48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506-F029-4C90-878B-E0C298E9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46F-232C-47F0-8E8D-95DC350D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DDF-6859-47B3-BF01-8D69FA7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196-34CF-4CD9-9F6B-D3C95085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3746-4B8F-49A3-9DCC-AB4F32B34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man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é Bour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2 Dimanche.m4a" descr=""/>
          <p:cNvPicPr/>
          <p:nvPr/>
        </p:nvPicPr>
        <p:blipFill>
          <a:blip r:embed="rId1"/>
          <a:stretch/>
        </p:blipFill>
        <p:spPr>
          <a:xfrm>
            <a:off x="449568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914400" y="685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914400" y="6858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9144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sais que tu frequentes un lun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914400" y="6858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sais que tu frequentes à lun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qu’il travaille au cirque à mar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914400" y="6858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sais que tu frequentes à lun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qu’il travaille au cirque à mar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dois dire que la trouve ame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 c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583200" y="5646600"/>
            <a:ext cx="28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m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914400" y="68580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sais que tu frequentes à lun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qu’il travaille au cirque à mar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dois dire que la trouve ame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 c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l fait plutôt moyenag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88600" y="5646600"/>
            <a:ext cx="56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m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yengeux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eval, antiq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14400" y="685800"/>
            <a:ext cx="102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914400" y="685800"/>
            <a:ext cx="1021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14400" y="685800"/>
            <a:ext cx="102106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914400" y="685800"/>
            <a:ext cx="102106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14400" y="685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sur un trottoi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eau lun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929160" y="5943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trottoi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a side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914400" y="685800"/>
            <a:ext cx="102106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914400" y="685800"/>
            <a:ext cx="102106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914400" y="685800"/>
            <a:ext cx="102106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 n’a pas regardé son vent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dirait un hippota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C’est rare quand on dit aujourd’hui ‘tamed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in cela ne fait rie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910440" y="601488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onyme de l’esto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9144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en cherchant ma pierre d’alum-d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551520" y="5646600"/>
            <a:ext cx="52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chose pour faire la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914400" y="6858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en cherchant ma pierre d’alum-d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’ai decouvert dans l’amoi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51520" y="5646600"/>
            <a:ext cx="52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chose pour faire la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914400" y="68580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en cherchant ma pierre d’alum-d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’ai decouvert dans l’amoi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 homme qui était nu com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 ve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551520" y="5646600"/>
            <a:ext cx="52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chose pour faire la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  expr. = naked as a w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914400" y="68580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en cherchant ma pierre d’alum-d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’ai decouvert dans l’amoi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 homme qui était nu com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 ve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l était plutôt ombrageux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51520" y="5646600"/>
            <a:ext cx="52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chose pour faire la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  expr. = naked as a w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14400" y="685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914400" y="685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914400" y="685800"/>
            <a:ext cx="8001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914400" y="685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sur un trottoi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eau lun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e l’ai recontré  à Clamard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29160" y="5943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trottoi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a side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914400" y="685800"/>
            <a:ext cx="8001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914400" y="685800"/>
            <a:ext cx="8001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914400" y="685800"/>
            <a:ext cx="8001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914400" y="68580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914400" y="68580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914400" y="685800"/>
            <a:ext cx="8001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Oh, oui, c’est vra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914400" y="685800"/>
            <a:ext cx="8001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Oh, oui, c’est vra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914400" y="685800"/>
            <a:ext cx="8001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ché derrière un parav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y suis resté pour voir ma femm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rare aussi quand on dit qu’on ai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jourd’hui , aujourd’hui, femmed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dimanche, 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Oh, oui, c’est vrai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Oh, je croyait que c’était un disque usé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927360" y="59436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paravent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914400" y="7333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914400" y="7333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pas très bie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14400" y="68580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sur un trottoi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eau lun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e l’ai recontré  à Clamard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n regard est beau comme la mer- c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929160" y="5943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trottoi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a side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914400" y="733320"/>
            <a:ext cx="89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pas tro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 je lui ai dit “j’en ai marr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d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918720" y="5638680"/>
            <a:ext cx="38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’en ai marr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don’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914400" y="733320"/>
            <a:ext cx="89154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pas tro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 je lui ai dit “j’en ai marr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di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la, Bravo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918720" y="5638680"/>
            <a:ext cx="38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’en ai marr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don’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914400" y="733320"/>
            <a:ext cx="89154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 tard, je compris un l’infide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-d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pas tro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 je lui ai dit “j’en ai marr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di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’est la, Bravo!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 j’étais devenu si maigr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461520" y="56386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’en ai marr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don’t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igr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, ski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914400" y="76212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ne voyait plus mes yeux ble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914400" y="762120"/>
            <a:ext cx="93726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ne voyait plus mes yeux ble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Alors, …Ce sera pas, eh, j’aurais eu des ye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s, n’est-ce pas,ce sera en effet  les yeux gris, jeudi…c’est un peu, quoi, malheureusement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’ai des yeux bleus, qu’est-ce que je l’y fas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en? Aller…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"/>
          <p:cNvSpPr/>
          <p:nvPr/>
        </p:nvSpPr>
        <p:spPr>
          <a:xfrm>
            <a:off x="964440" y="633240"/>
            <a:ext cx="726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2"/>
          <p:cNvSpPr/>
          <p:nvPr/>
        </p:nvSpPr>
        <p:spPr>
          <a:xfrm>
            <a:off x="964440" y="633240"/>
            <a:ext cx="726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964440" y="633240"/>
            <a:ext cx="726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2"/>
          <p:cNvSpPr/>
          <p:nvPr/>
        </p:nvSpPr>
        <p:spPr>
          <a:xfrm>
            <a:off x="964440" y="633240"/>
            <a:ext cx="7265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964440" y="633240"/>
            <a:ext cx="7265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914400" y="68580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sur un trottoi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eau lun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 je l’ai recontré  à Clamard - 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n regard est beau comme la mer- cr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ce que  vous avez des beaux yeux, d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29160" y="594360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trottoi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a side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964440" y="633240"/>
            <a:ext cx="7265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964440" y="633240"/>
            <a:ext cx="72658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964440" y="633240"/>
            <a:ext cx="726588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couche sur un édredo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’ai repris cinq kilogrammes-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Cela n’est rien à fai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 suis fatigué certain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ureusement, que demain c’est: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’est re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919800" y="6014880"/>
            <a:ext cx="61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 édredon=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forter, duvet, bed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1440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14400" y="685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914400" y="685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914400" y="6858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les ai eu a la salle de vent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e-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ca me fait rien pourv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’on s’aime,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, dimanch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61560" y="6014880"/>
            <a:ext cx="496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 salle de vent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uction 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2:06:48Z</dcterms:created>
  <dc:creator>Angie</dc:creator>
  <dc:description/>
  <dc:language>en-US</dc:language>
  <cp:lastModifiedBy>Angie</cp:lastModifiedBy>
  <dcterms:modified xsi:type="dcterms:W3CDTF">2011-11-15T00:05:32Z</dcterms:modified>
  <cp:revision>9</cp:revision>
  <dc:subject/>
  <dc:title>Dimanche</dc:title>
</cp:coreProperties>
</file>